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99EE-D032-495A-9537-2521D941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76E-B612-424C-99B0-E7AAB5A8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22F-C562-44F2-9B2B-72641364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F13-624A-4827-ADA6-0D856E62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D27-BC12-4435-9EC3-F749EDB9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774-DA95-49B5-808C-246AE93B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F6E-7332-411F-BAB4-99ED0A9E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413-6C3E-46E9-8FC3-ECEF6E80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FB7-538F-4975-8216-CFC5B2A0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32C-A200-45A5-810D-2C1C5334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E2F-2FC2-4ACC-BA07-00FABEE8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A6E-4489-4323-A59D-AD4AFDBA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DFFC-61C4-4911-936C-B841A223B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666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380880" y="1143000"/>
            <a:ext cx="9067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ASTPARDON"/>
              </a:rPr>
              <a:t>Using Excel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FASTPARDON"/>
              </a:rPr>
              <a:t>to Create a Chart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FASTPARDON"/>
              </a:rPr>
              <a:t>from a Set of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a Data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38280" y="3581280"/>
            <a:ext cx="5486400" cy="381240"/>
          </a:xfrm>
          <a:prstGeom prst="wedgeRectCallout">
            <a:avLst>
              <a:gd name="adj1" fmla="val -61689"/>
              <a:gd name="adj2" fmla="val -19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ursor to highlight numbers from survey and then click “AutoSum” to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200400" y="198072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63040" y="25509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3657600"/>
            <a:ext cx="990720" cy="685800"/>
          </a:xfrm>
          <a:prstGeom prst="wedgeRectCallout">
            <a:avLst>
              <a:gd name="adj1" fmla="val -66347"/>
              <a:gd name="adj2" fmla="val -1416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title and voting op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a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38280" y="2895480"/>
            <a:ext cx="3048120" cy="685800"/>
          </a:xfrm>
          <a:prstGeom prst="wedgeRectCallout">
            <a:avLst>
              <a:gd name="adj1" fmla="val -60365"/>
              <a:gd name="adj2" fmla="val -1384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the “Insert” menu and click on “Char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4400" y="3276720"/>
            <a:ext cx="1676520" cy="685800"/>
          </a:xfrm>
          <a:prstGeom prst="wedgeRectCallout">
            <a:avLst>
              <a:gd name="adj1" fmla="val 88449"/>
              <a:gd name="adj2" fmla="val -3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select a chart sty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4876920"/>
            <a:ext cx="1676520" cy="685800"/>
          </a:xfrm>
          <a:prstGeom prst="wedgeRectCallout">
            <a:avLst>
              <a:gd name="adj1" fmla="val 99810"/>
              <a:gd name="adj2" fmla="val -807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, click “Next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ositioning of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3200400"/>
            <a:ext cx="1600200" cy="1219320"/>
          </a:xfrm>
          <a:prstGeom prst="wedgeRectCallout">
            <a:avLst>
              <a:gd name="adj1" fmla="val 139981"/>
              <a:gd name="adj2" fmla="val 2291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positioning. Then, click “Nex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lacement of Leg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120" y="3200400"/>
            <a:ext cx="1600200" cy="1219320"/>
          </a:xfrm>
          <a:prstGeom prst="wedgeRectCallout">
            <a:avLst>
              <a:gd name="adj1" fmla="val 80851"/>
              <a:gd name="adj2" fmla="val 7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positioning. Then, click “Nex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a New sheet for Your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2120" y="3200400"/>
            <a:ext cx="1600200" cy="1219320"/>
          </a:xfrm>
          <a:prstGeom prst="wedgeRectCallout">
            <a:avLst>
              <a:gd name="adj1" fmla="val 123810"/>
              <a:gd name="adj2" fmla="val 3163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“As a new sheet”. Then, click “Finish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You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ining you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47920" y="3200400"/>
            <a:ext cx="1676160" cy="1143000"/>
          </a:xfrm>
          <a:prstGeom prst="wedgeRectCallout">
            <a:avLst>
              <a:gd name="adj1" fmla="val 61458"/>
              <a:gd name="adj2" fmla="val -645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click on the background or segments to change style, color, line weight, fill, etc. Then click “OK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8:08:45Z</dcterms:created>
  <dc:creator>Default</dc:creator>
  <dc:description/>
  <dc:language>en-US</dc:language>
  <cp:lastModifiedBy>Default</cp:lastModifiedBy>
  <dcterms:modified xsi:type="dcterms:W3CDTF">2008-07-30T18:28:48Z</dcterms:modified>
  <cp:revision>11</cp:revision>
  <dc:subject/>
  <dc:title>Slide 1</dc:title>
</cp:coreProperties>
</file>