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994-E525-48A2-B5AE-A5990160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38F-A9AA-43CE-B405-0646E8BF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E4E-5C4F-4218-8F29-2C9028F2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752-3DE6-4377-A6D5-AF4D7897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B36-42DD-46EF-B5AB-30B8B3F2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ACD-32B1-4B11-95BB-B177F626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1AA-AF3D-402B-884B-C264742F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470-D673-4DE3-B804-07B9F78B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B9E-B185-4B75-9F1B-5E55B3D7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483-83D2-441B-9D14-E1B2E9B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E1D-5EDB-4409-9D33-5FB8EF02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D24-9A06-45A2-9E4F-34725215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CB74-17AA-44F7-A11C-400337AA3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666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80880" y="1143000"/>
            <a:ext cx="906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Using Excel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to Create a Char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from a Set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Dat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3581280"/>
            <a:ext cx="5486400" cy="381240"/>
          </a:xfrm>
          <a:prstGeom prst="wedgeRectCallout">
            <a:avLst>
              <a:gd name="adj1" fmla="val -61689"/>
              <a:gd name="adj2" fmla="val -19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ursor to highlight numbers from survey and then click “AutoSum” to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200400" y="198072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63040" y="2550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3657600"/>
            <a:ext cx="990720" cy="685800"/>
          </a:xfrm>
          <a:prstGeom prst="wedgeRectCallout">
            <a:avLst>
              <a:gd name="adj1" fmla="val -66347"/>
              <a:gd name="adj2" fmla="val -14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itle and voting op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38280" y="2895480"/>
            <a:ext cx="3048120" cy="685800"/>
          </a:xfrm>
          <a:prstGeom prst="wedgeRectCallout">
            <a:avLst>
              <a:gd name="adj1" fmla="val -60365"/>
              <a:gd name="adj2" fmla="val -1384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the “Insert” menu and click on “Char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3276720"/>
            <a:ext cx="1676520" cy="685800"/>
          </a:xfrm>
          <a:prstGeom prst="wedgeRectCallout">
            <a:avLst>
              <a:gd name="adj1" fmla="val 88449"/>
              <a:gd name="adj2" fmla="val -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select a chart sty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876920"/>
            <a:ext cx="1676520" cy="685800"/>
          </a:xfrm>
          <a:prstGeom prst="wedgeRectCallout">
            <a:avLst>
              <a:gd name="adj1" fmla="val 99810"/>
              <a:gd name="adj2" fmla="val -80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, click “Next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ositioning of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39981"/>
              <a:gd name="adj2" fmla="val 229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lacement of 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80851"/>
              <a:gd name="adj2" fmla="val 7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New sheet for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23810"/>
              <a:gd name="adj2" fmla="val 316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“As a new sheet”. Then, click “Finis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ing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7920" y="3200400"/>
            <a:ext cx="1676160" cy="1143000"/>
          </a:xfrm>
          <a:prstGeom prst="wedgeRectCallout">
            <a:avLst>
              <a:gd name="adj1" fmla="val 61458"/>
              <a:gd name="adj2" fmla="val -64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 on the background or segments to change style, color, line weight, fill, etc. Then click “OK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8:08:45Z</dcterms:created>
  <dc:creator>Default</dc:creator>
  <dc:description/>
  <dc:language>en-US</dc:language>
  <cp:lastModifiedBy>Default</cp:lastModifiedBy>
  <dcterms:modified xsi:type="dcterms:W3CDTF">2008-07-30T18:28:48Z</dcterms:modified>
  <cp:revision>11</cp:revision>
  <dc:subject/>
  <dc:title>Slide 1</dc:title>
</cp:coreProperties>
</file>