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CAF5-69E1-4C2C-A285-03BE0E2EA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CCEF-CAE3-4714-BFD3-63A91B2CF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0D1E-CF67-4514-845A-3725D2283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1F65-44D8-4A34-9F34-A8B341D30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B34D-45E6-4E9C-AEDB-D60C35066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ACEB-9212-400D-8CA0-300163BDC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B1C8-E934-4BCF-A61B-25B9422B8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07E7-49A4-4AEF-8158-67A43C734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036B-988B-4BAD-849F-A003DE4CF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DE01-B18A-4E8F-91C6-AC06EADD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ABBF-67F4-46AA-A43F-EB1EEB73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9A83-57F6-4DAF-B080-2DFF8DDE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81B79-0B02-439B-84B7-D846F35CE0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2666880" y="-1447920"/>
            <a:ext cx="12191760" cy="9753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380880" y="1143000"/>
            <a:ext cx="9067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FASTPARDON"/>
              </a:rPr>
              <a:t>Using Excel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FASTPARDON"/>
              </a:rPr>
              <a:t>to Create a Chart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FASTPARDON"/>
              </a:rPr>
              <a:t>from a Set of Da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e a Data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438280" y="3581280"/>
            <a:ext cx="5486400" cy="381240"/>
          </a:xfrm>
          <a:prstGeom prst="wedgeRectCallout">
            <a:avLst>
              <a:gd name="adj1" fmla="val -61689"/>
              <a:gd name="adj2" fmla="val -19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cursor to highlight numbers from survey and then click “AutoSum” to to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3200400" y="198072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63040" y="2550960"/>
            <a:ext cx="11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S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3657600"/>
            <a:ext cx="990720" cy="685800"/>
          </a:xfrm>
          <a:prstGeom prst="wedgeRectCallout">
            <a:avLst>
              <a:gd name="adj1" fmla="val -66347"/>
              <a:gd name="adj2" fmla="val -14166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title and voting op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ng a 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438280" y="2895480"/>
            <a:ext cx="3048120" cy="685800"/>
          </a:xfrm>
          <a:prstGeom prst="wedgeRectCallout">
            <a:avLst>
              <a:gd name="adj1" fmla="val -60365"/>
              <a:gd name="adj2" fmla="val -13842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 to the “Insert” menu and click on “Chart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a 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914400" y="3276720"/>
            <a:ext cx="1676520" cy="685800"/>
          </a:xfrm>
          <a:prstGeom prst="wedgeRectCallout">
            <a:avLst>
              <a:gd name="adj1" fmla="val 88449"/>
              <a:gd name="adj2" fmla="val -300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, select a chart styl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14600" y="4876920"/>
            <a:ext cx="1676520" cy="685800"/>
          </a:xfrm>
          <a:prstGeom prst="wedgeRectCallout">
            <a:avLst>
              <a:gd name="adj1" fmla="val 99810"/>
              <a:gd name="adj2" fmla="val -8078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n, click “Next”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ect Positioning of 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62120" y="3200400"/>
            <a:ext cx="1600200" cy="1219320"/>
          </a:xfrm>
          <a:prstGeom prst="wedgeRectCallout">
            <a:avLst>
              <a:gd name="adj1" fmla="val 139981"/>
              <a:gd name="adj2" fmla="val 2291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positioning. Then, click “Next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ect Placement of Leg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762120" y="3200400"/>
            <a:ext cx="1600200" cy="1219320"/>
          </a:xfrm>
          <a:prstGeom prst="wedgeRectCallout">
            <a:avLst>
              <a:gd name="adj1" fmla="val 80851"/>
              <a:gd name="adj2" fmla="val 78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positioning. Then, click “Next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eate a New sheet for Your Ch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62120" y="3200400"/>
            <a:ext cx="1600200" cy="1219320"/>
          </a:xfrm>
          <a:prstGeom prst="wedgeRectCallout">
            <a:avLst>
              <a:gd name="adj1" fmla="val 123810"/>
              <a:gd name="adj2" fmla="val 3163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“As a new sheet”. Then, click “Finish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Your 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ining your 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447920" y="3200400"/>
            <a:ext cx="1676160" cy="1143000"/>
          </a:xfrm>
          <a:prstGeom prst="wedgeRectCallout">
            <a:avLst>
              <a:gd name="adj1" fmla="val 61458"/>
              <a:gd name="adj2" fmla="val -6458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 click on the background or segments to change style, color, line weight, fill, etc. Then click “OK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18:08:45Z</dcterms:created>
  <dc:creator>Default</dc:creator>
  <dc:description/>
  <dc:language>en-US</dc:language>
  <cp:lastModifiedBy>Default</cp:lastModifiedBy>
  <dcterms:modified xsi:type="dcterms:W3CDTF">2008-07-30T18:28:48Z</dcterms:modified>
  <cp:revision>11</cp:revision>
  <dc:subject/>
  <dc:title>Slide 1</dc:title>
</cp:coreProperties>
</file>