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E2C-C2F5-43D5-B7A6-BCDAAA77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7AB-003E-47F8-B5A4-D1B1E1D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395-8954-44C1-B86B-BF8CDCDC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0EA-3D5B-4BA2-AAD9-81DF2F92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C02-4C09-4DEC-87ED-92CE0BB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70B-D006-4920-A25A-9F91B834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D87-7051-401E-8103-B97403BE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503-5BE9-4BA9-9E5A-77862194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518-A098-4380-92D9-25B2D73E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B9C-A229-4300-AED3-06DE877A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FA8-B0C4-4F02-95EE-6E4A3D7F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0B4-F23A-4C61-9AB0-00900C9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5BF-AADB-442F-8EE1-904A85F07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6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80880" y="114300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Using Exce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to Create a Char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from a Set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581280"/>
            <a:ext cx="5486400" cy="381240"/>
          </a:xfrm>
          <a:prstGeom prst="wedgeRectCallout">
            <a:avLst>
              <a:gd name="adj1" fmla="val -61689"/>
              <a:gd name="adj2" fmla="val -19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ursor to highlight numbers from survey and then click “AutoSum” to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0040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3040" y="2550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657600"/>
            <a:ext cx="990720" cy="685800"/>
          </a:xfrm>
          <a:prstGeom prst="wedgeRectCallout">
            <a:avLst>
              <a:gd name="adj1" fmla="val -66347"/>
              <a:gd name="adj2" fmla="val -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itle and voting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2895480"/>
            <a:ext cx="3048120" cy="685800"/>
          </a:xfrm>
          <a:prstGeom prst="wedgeRectCallout">
            <a:avLst>
              <a:gd name="adj1" fmla="val -60365"/>
              <a:gd name="adj2" fmla="val -1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“Insert” menu and click on “Char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276720"/>
            <a:ext cx="1676520" cy="685800"/>
          </a:xfrm>
          <a:prstGeom prst="wedgeRectCallout">
            <a:avLst>
              <a:gd name="adj1" fmla="val 88449"/>
              <a:gd name="adj2" fmla="val -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elect a chart sty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876920"/>
            <a:ext cx="1676520" cy="685800"/>
          </a:xfrm>
          <a:prstGeom prst="wedgeRectCallout">
            <a:avLst>
              <a:gd name="adj1" fmla="val 99810"/>
              <a:gd name="adj2" fmla="val -80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, click “Next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ositioning of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39981"/>
              <a:gd name="adj2" fmla="val 229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lacement of 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80851"/>
              <a:gd name="adj2" fmla="val 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New sheet for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23810"/>
              <a:gd name="adj2" fmla="val 31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As a new sheet”. Then, click “Finis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ing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3200400"/>
            <a:ext cx="1676160" cy="1143000"/>
          </a:xfrm>
          <a:prstGeom prst="wedgeRectCallout">
            <a:avLst>
              <a:gd name="adj1" fmla="val 61458"/>
              <a:gd name="adj2" fmla="val -64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on the background or segments to change style, color, line weight, fill, etc. Then click “OK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8:45Z</dcterms:created>
  <dc:creator>Default</dc:creator>
  <dc:description/>
  <dc:language>en-US</dc:language>
  <cp:lastModifiedBy>Default</cp:lastModifiedBy>
  <dcterms:modified xsi:type="dcterms:W3CDTF">2008-07-30T18:28:48Z</dcterms:modified>
  <cp:revision>11</cp:revision>
  <dc:subject/>
  <dc:title>Slide 1</dc:title>
</cp:coreProperties>
</file>