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737A-633B-4F36-BA39-9FCC9B21C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D2C3-FA48-465A-B55F-A3CAB39EB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3CC6-549F-4D4B-9682-A649BBFBE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F1E7-5764-4B36-A1A4-A62BB07D8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084E-5F4F-4D1F-A40F-A03F082C2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622F-A84F-478B-A2EF-4B42D22EC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38A8-59A2-40E9-9ED1-2F121B383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A146-A637-4E63-8688-77CF28D64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B25B-92D7-4374-9D51-99C3B9BE4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317A-3C17-4B6A-9B00-C7EDCDFAA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7631-26BA-4507-BA36-949976918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2232-A5EE-4CB8-B752-18ADC261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AF374-4257-4E9A-AB1D-CE7A011929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2666880" y="-1447920"/>
            <a:ext cx="12191760" cy="9753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380880" y="1143000"/>
            <a:ext cx="9067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FASTPARDON"/>
              </a:rPr>
              <a:t>Using Excel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FASTPARDON"/>
              </a:rPr>
              <a:t>to Create a Chart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FASTPARDON"/>
              </a:rPr>
              <a:t>from a Set of Da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e a Data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438280" y="3581280"/>
            <a:ext cx="5486400" cy="381240"/>
          </a:xfrm>
          <a:prstGeom prst="wedgeRectCallout">
            <a:avLst>
              <a:gd name="adj1" fmla="val -61689"/>
              <a:gd name="adj2" fmla="val -19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cursor to highlight numbers from survey and then click “AutoSum” to to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3200400" y="198072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63040" y="2550960"/>
            <a:ext cx="11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S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3657600"/>
            <a:ext cx="990720" cy="685800"/>
          </a:xfrm>
          <a:prstGeom prst="wedgeRectCallout">
            <a:avLst>
              <a:gd name="adj1" fmla="val -66347"/>
              <a:gd name="adj2" fmla="val -14166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title and voting op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ng a 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438280" y="2895480"/>
            <a:ext cx="3048120" cy="685800"/>
          </a:xfrm>
          <a:prstGeom prst="wedgeRectCallout">
            <a:avLst>
              <a:gd name="adj1" fmla="val -60365"/>
              <a:gd name="adj2" fmla="val -13842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 to the “Insert” menu and click on “Chart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a 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914400" y="3276720"/>
            <a:ext cx="1676520" cy="685800"/>
          </a:xfrm>
          <a:prstGeom prst="wedgeRectCallout">
            <a:avLst>
              <a:gd name="adj1" fmla="val 88449"/>
              <a:gd name="adj2" fmla="val -300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, select a chart styl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14600" y="4876920"/>
            <a:ext cx="1676520" cy="685800"/>
          </a:xfrm>
          <a:prstGeom prst="wedgeRectCallout">
            <a:avLst>
              <a:gd name="adj1" fmla="val 99810"/>
              <a:gd name="adj2" fmla="val -8078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n, click “Next”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ect Positioning of 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62120" y="3200400"/>
            <a:ext cx="1600200" cy="1219320"/>
          </a:xfrm>
          <a:prstGeom prst="wedgeRectCallout">
            <a:avLst>
              <a:gd name="adj1" fmla="val 139981"/>
              <a:gd name="adj2" fmla="val 2291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positioning. Then, click “Next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ect Placement of Leg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762120" y="3200400"/>
            <a:ext cx="1600200" cy="1219320"/>
          </a:xfrm>
          <a:prstGeom prst="wedgeRectCallout">
            <a:avLst>
              <a:gd name="adj1" fmla="val 80851"/>
              <a:gd name="adj2" fmla="val 78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positioning. Then, click “Next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eate a New sheet for Your Ch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62120" y="3200400"/>
            <a:ext cx="1600200" cy="1219320"/>
          </a:xfrm>
          <a:prstGeom prst="wedgeRectCallout">
            <a:avLst>
              <a:gd name="adj1" fmla="val 123810"/>
              <a:gd name="adj2" fmla="val 3163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“As a new sheet”. Then, click “Finish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Your 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ining your 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447920" y="3200400"/>
            <a:ext cx="1676160" cy="1143000"/>
          </a:xfrm>
          <a:prstGeom prst="wedgeRectCallout">
            <a:avLst>
              <a:gd name="adj1" fmla="val 61458"/>
              <a:gd name="adj2" fmla="val -6458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 click on the background or segments to change style, color, line weight, fill, etc. Then click “OK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18:08:45Z</dcterms:created>
  <dc:creator>Default</dc:creator>
  <dc:description/>
  <dc:language>en-US</dc:language>
  <cp:lastModifiedBy>Default</cp:lastModifiedBy>
  <dcterms:modified xsi:type="dcterms:W3CDTF">2008-07-30T18:28:48Z</dcterms:modified>
  <cp:revision>11</cp:revision>
  <dc:subject/>
  <dc:title>Slide 1</dc:title>
</cp:coreProperties>
</file>